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E530-ECEE-4740-834F-986A1752A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Red seal ships were specially licensed by the Tokugawa shogunate in the early 17th century. The aim was to foster </a:t>
            </a:r>
            <a:r>
              <a:rPr b="1" lang="en-US" sz="1200" spc="-1" strike="noStrike">
                <a:solidFill>
                  <a:srgbClr val="333333"/>
                </a:solidFill>
                <a:latin typeface="Arial"/>
                <a:ea typeface="Arial"/>
              </a:rPr>
              <a:t>Japan</a:t>
            </a:r>
            <a:r>
              <a:rPr b="0" lang="en-US" sz="1200" spc="-1" strike="noStrike">
                <a:solidFill>
                  <a:srgbClr val="333333"/>
                </a:solidFill>
                <a:latin typeface="Arial"/>
                <a:ea typeface="Arial"/>
              </a:rPr>
              <a:t>ese commerce in Southeast Asian markets, thereby discouraging foreign traders.- http://www.worldhistory.abc-clio.com/library/searches/searchdisplay.aspx?entryid=880186&amp;fulltext=japan&amp;nav=non&amp;specialtopicid=-1</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Himeji Castle passed into the control of Tokugawa Ieyasu after the Battle of Sekigahara in 1600. An example of the most advanced technology of defensive architecture, 17th-century </a:t>
            </a:r>
            <a:r>
              <a:rPr b="1" lang="en-US" sz="1200" spc="-1" strike="noStrike">
                <a:solidFill>
                  <a:srgbClr val="333333"/>
                </a:solidFill>
                <a:latin typeface="Arial"/>
                <a:ea typeface="Arial"/>
              </a:rPr>
              <a:t>Japan</a:t>
            </a:r>
            <a:r>
              <a:rPr b="0" lang="en-US" sz="1200" spc="-1" strike="noStrike">
                <a:solidFill>
                  <a:srgbClr val="333333"/>
                </a:solidFill>
                <a:latin typeface="Arial"/>
                <a:ea typeface="Arial"/>
              </a:rPr>
              <a:t>ese builders sought harmony between man and nature in their designs to strengthen this residence and military compound. It was called "White Heron Castle" for its white walls and the wing-like design of its five stories. -http://www.worldhistory.abc-clio.com/library/searches/searchdisplay.aspx?entryid=348487&amp;fulltext=japan&amp;nav=non&amp;specialtopicid=-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52190-69D7-4E32-A4CF-5C224A54E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77A69-1F6A-408E-80B8-26E17CD9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64077-F6DF-44E3-9366-C77CBFC4B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5963E-B849-49EF-A358-4A90BF324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059E-53B2-4A88-9B7F-B8ED601A3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4781C-07BC-4A35-A58C-FE8B180E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28604-1D34-43FD-BB92-A1A797A1F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3033C-4989-499D-B42D-005403EDD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58112-50D5-41AF-870C-D73DE60D4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DC03E-349D-459E-BED5-FE6B1D17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9CAFF-9EA0-43C3-86CE-56ED839D2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38BF-EAA0-425B-A074-AEAFA29C5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96D5-9AB6-4C24-9EB5-BE5248D66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c/cf/Portrait_of_the_Kangxi_Emperor_in_Court_Dress.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na’s Interaction with the Wes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some Jesuits across borders – Matteo Ricci and Francis Xav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nish and Portuguese come and try to conquer…but China’s too b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p embassies and trading po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1311120" y="1868400"/>
            <a:ext cx="5446800" cy="4145040"/>
            <a:chOff x="1311120" y="1868400"/>
            <a:chExt cx="5446800" cy="4145040"/>
          </a:xfrm>
        </p:grpSpPr>
        <p:sp>
          <p:nvSpPr>
            <p:cNvPr id="65" name=""/>
            <p:cNvSpPr/>
            <p:nvPr/>
          </p:nvSpPr>
          <p:spPr>
            <a:xfrm>
              <a:off x="1311120" y="1868400"/>
              <a:ext cx="544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6" name=""/>
            <p:cNvGrpSpPr/>
            <p:nvPr/>
          </p:nvGrpSpPr>
          <p:grpSpPr>
            <a:xfrm>
              <a:off x="1311120" y="1868400"/>
              <a:ext cx="4108320" cy="4145040"/>
              <a:chOff x="1311120" y="1868400"/>
              <a:chExt cx="4108320" cy="4145040"/>
            </a:xfrm>
          </p:grpSpPr>
          <p:sp>
            <p:nvSpPr>
              <p:cNvPr id="67" name=""/>
              <p:cNvSpPr/>
              <p:nvPr/>
            </p:nvSpPr>
            <p:spPr>
              <a:xfrm>
                <a:off x="1311120" y="1868400"/>
                <a:ext cx="4108320" cy="414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1311120" y="1868400"/>
                <a:ext cx="4108320" cy="4145040"/>
                <a:chOff x="1311120" y="1868400"/>
                <a:chExt cx="4108320" cy="4145040"/>
              </a:xfrm>
            </p:grpSpPr>
            <p:sp>
              <p:nvSpPr>
                <p:cNvPr id="69" name=""/>
                <p:cNvSpPr/>
                <p:nvPr/>
              </p:nvSpPr>
              <p:spPr>
                <a:xfrm>
                  <a:off x="1311120" y="1868400"/>
                  <a:ext cx="410832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0" name=""/>
                <p:cNvGrpSpPr/>
                <p:nvPr/>
              </p:nvGrpSpPr>
              <p:grpSpPr>
                <a:xfrm>
                  <a:off x="1311120" y="1868400"/>
                  <a:ext cx="4108320" cy="4145040"/>
                  <a:chOff x="1311120" y="1868400"/>
                  <a:chExt cx="4108320" cy="4145040"/>
                </a:xfrm>
              </p:grpSpPr>
              <p:sp>
                <p:nvSpPr>
                  <p:cNvPr id="71" name=""/>
                  <p:cNvSpPr/>
                  <p:nvPr/>
                </p:nvSpPr>
                <p:spPr>
                  <a:xfrm>
                    <a:off x="1311120" y="1868400"/>
                    <a:ext cx="4108320" cy="414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11120" y="1868400"/>
                    <a:ext cx="4108320" cy="414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25700" spc="-1" strike="noStrike">
                        <a:solidFill>
                          <a:srgbClr val="333333"/>
                        </a:solidFill>
                        <a:latin typeface="Arial"/>
                      </a:rPr>
                      <a:t> </a:t>
                    </a:r>
                    <a:r>
                      <a:rPr b="0" lang="en-US" sz="900" spc="-1" strike="noStrike">
                        <a:solidFill>
                          <a:srgbClr val="333333"/>
                        </a:solidFill>
                        <a:latin typeface="Arial"/>
                      </a:rPr>
                      <a:t>                                                                                                                                                 </a:t>
                    </a:r>
                    <a:endParaRPr b="0" lang="en-US" sz="900" spc="-1" strike="noStrike">
                      <a:solidFill>
                        <a:srgbClr val="000000"/>
                      </a:solidFill>
                      <a:latin typeface="Times New Roman"/>
                    </a:endParaRPr>
                  </a:p>
                </p:txBody>
              </p:sp>
            </p:grpSp>
          </p:grpSp>
        </p:grpSp>
      </p:grpSp>
      <p:pic>
        <p:nvPicPr>
          <p:cNvPr id="73" name="" descr=""/>
          <p:cNvPicPr/>
          <p:nvPr/>
        </p:nvPicPr>
        <p:blipFill>
          <a:blip r:embed="rId1"/>
          <a:stretch/>
        </p:blipFill>
        <p:spPr>
          <a:xfrm>
            <a:off x="1600200" y="228600"/>
            <a:ext cx="5943600" cy="5238720"/>
          </a:xfrm>
          <a:prstGeom prst="rect">
            <a:avLst/>
          </a:prstGeom>
          <a:ln w="0">
            <a:noFill/>
          </a:ln>
        </p:spPr>
      </p:pic>
      <p:sp>
        <p:nvSpPr>
          <p:cNvPr id="74" name=""/>
          <p:cNvSpPr/>
          <p:nvPr/>
        </p:nvSpPr>
        <p:spPr>
          <a:xfrm>
            <a:off x="380880" y="54864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Red seal ships were specially licensed by the Tokugawa shogunate in the early 17th century. The aim was to foster </a:t>
            </a:r>
            <a:r>
              <a:rPr b="1" lang="en-US" sz="1800" spc="-1" strike="noStrike">
                <a:solidFill>
                  <a:srgbClr val="333333"/>
                </a:solidFill>
                <a:latin typeface="Arial"/>
                <a:ea typeface="Arial"/>
              </a:rPr>
              <a:t>Japan</a:t>
            </a:r>
            <a:r>
              <a:rPr b="0" lang="en-US" sz="1800" spc="-1" strike="noStrike">
                <a:solidFill>
                  <a:srgbClr val="333333"/>
                </a:solidFill>
                <a:latin typeface="Arial"/>
                <a:ea typeface="Arial"/>
              </a:rPr>
              <a:t>ese commerce in Southeast Asian markets, thereby discouraging foreign trad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057400" y="62485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en.wikipedia.org/wiki/Francis_Xav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371600" y="6172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china.org.cn/english/travel/108995.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na’s Interaction with the West</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isolated…shut off from W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try to trade, but China refu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quence-shut off from new inventions of the Scientific Rev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NOCENTRIC-believed they were superior to Europe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ign contacts could only go to treaty por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Image:Portrait of the Kangxi Emperor in Court Dress.jpg">
            <a:hlinkClick r:id="rId1"/>
          </p:cNvPr>
          <p:cNvPicPr/>
          <p:nvPr/>
        </p:nvPicPr>
        <p:blipFill>
          <a:blip r:embed="rId2"/>
          <a:stretch/>
        </p:blipFill>
        <p:spPr>
          <a:xfrm>
            <a:off x="2835360" y="0"/>
            <a:ext cx="3525840" cy="5867280"/>
          </a:xfrm>
          <a:prstGeom prst="rect">
            <a:avLst/>
          </a:prstGeom>
          <a:ln w="0">
            <a:noFill/>
          </a:ln>
        </p:spPr>
      </p:pic>
      <p:sp>
        <p:nvSpPr>
          <p:cNvPr id="55" name=""/>
          <p:cNvSpPr/>
          <p:nvPr/>
        </p:nvSpPr>
        <p:spPr>
          <a:xfrm>
            <a:off x="457200" y="585144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ngxi-One of China’s greatest emperors during the Qing Dynasty (http://en.wikipedia.org/wiki/Image:Portrait_of_the_Kangxi_Emperor_in_Court_Dress.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panese/ European Interactions</a:t>
            </a:r>
            <a:endParaRPr b="0" lang="en-US" sz="3600" spc="-1" strike="noStrike">
              <a:solidFill>
                <a:srgbClr val="000000"/>
              </a:solidFill>
              <a:latin typeface="Times New Roman"/>
            </a:endParaRPr>
          </a:p>
        </p:txBody>
      </p:sp>
      <p:sp>
        <p:nvSpPr>
          <p:cNvPr id="57" name=""/>
          <p:cNvSpPr/>
          <p:nvPr/>
        </p:nvSpPr>
        <p:spPr>
          <a:xfrm>
            <a:off x="838080" y="16765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762120" y="1600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33520" y="1600200"/>
            <a:ext cx="8381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3- typhoon winds blow Portuguese trading ships off course; trade begi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trade welcomed, Japanese were curious of European technologies (tobacco, clocks, spectacles, weapon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al diffusion; crossbreeding of European and Japanese technologies (castles, ship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pons used by Oda Nobunaga and Toyotomi Hideyoshi to unify islands, dominate local conflict, also allowed Tokugawa shogunate to maintain auth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523880" y="457200"/>
            <a:ext cx="6096240" cy="4394160"/>
          </a:xfrm>
          <a:prstGeom prst="rect">
            <a:avLst/>
          </a:prstGeom>
          <a:ln w="0">
            <a:noFill/>
          </a:ln>
        </p:spPr>
      </p:pic>
      <p:sp>
        <p:nvSpPr>
          <p:cNvPr id="61" name=""/>
          <p:cNvSpPr/>
          <p:nvPr/>
        </p:nvSpPr>
        <p:spPr>
          <a:xfrm>
            <a:off x="1143000" y="51055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meji Castle in Japan; a cross between a traditional Japanese fortress and a European cas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 of Christianity</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after Portuguese landing, Christian missionaries arrived in Jap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is Xavier- Missionary with limited success in converts, “law of God was contrary to the law of Jap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ity lost favor quickly due to destruction of shrines to make Christian schools and churc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5- Hideyoshi banned Christian activities and all trading except for once annual Dutch vis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6:11:41Z</dcterms:created>
  <dc:creator>Student</dc:creator>
  <dc:description/>
  <dc:language>en-US</dc:language>
  <cp:lastModifiedBy>Student</cp:lastModifiedBy>
  <dcterms:modified xsi:type="dcterms:W3CDTF">2007-12-17T17:18:45Z</dcterms:modified>
  <cp:revision>4</cp:revision>
  <dc:subject/>
  <dc:title>China’s Interaction with the West</dc:title>
</cp:coreProperties>
</file>